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media/image3.jpeg" ContentType="image/jpeg"/>
  <Override PartName="/ppt/media/image2.png" ContentType="image/png"/>
  <Override PartName="/ppt/media/jeop.wav" ContentType="audio/x-wav"/>
  <Override PartName="/ppt/media/image4.jpeg" ContentType="image/jpeg"/>
  <Override PartName="/ppt/media/clap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1078-9ABB-439F-B1DD-EA55E83A2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522A-88AD-412A-B360-E807DC76D3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46B6-4491-4551-8E3C-0D311CF7DE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CB8-0FA3-4C52-8672-EC136F77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B5B-7858-4282-BC61-DD4FFC3F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80D-00D1-462E-9B87-F9B10A7F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516-9A38-4178-865B-FC20216F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16B3-E01C-4EF4-9D3F-68BC886B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02F3-E4FD-4D38-8D8F-B1C7CB41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7BB9-3739-4D8F-943F-A65F331E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CAA2-9943-48D0-AC2A-FFEB0DD6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95FF-DA32-42A1-A8E6-64FD3A5E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A029-303E-44A1-A045-D39BA9D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5B9C-3E60-43A8-9976-A7410AB7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69D-D3D7-4116-A9CB-D2F90506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4CC5-4A92-42B2-BDCC-0CCE64C6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D635-E98D-4D24-9C74-CAED80B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50E-69CE-467F-A40E-2551CF69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420B-C8A1-444D-9CA8-4002060B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7B4A-007F-4759-BE64-48F98A5D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2CC-89EA-45E5-A42C-FE16B1E1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FFF-272C-473A-AF9D-A47993CF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049-CA5B-4CDF-B4F5-07B12B08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09D-824A-45DC-A49C-5857AD07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9DF-6228-49EF-8A2A-D90C2BBF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260-8541-4F6F-B576-9C677D97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427-23E0-43B8-BA5A-32E0E6E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a5002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9f1b34"/>
              </a:gs>
              <a:gs pos="50000">
                <a:srgbClr val="dddddd"/>
              </a:gs>
              <a:gs pos="100000">
                <a:srgbClr val="9f1b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C56E-7A57-4B56-8C9B-EEFCA6223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a5002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9f1b34"/>
              </a:gs>
              <a:gs pos="50000">
                <a:srgbClr val="dddddd"/>
              </a:gs>
              <a:gs pos="100000">
                <a:srgbClr val="9f1b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1421-8AEF-4FFF-B7D9-B0CE704DE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audio" Target="../media/jeop.wav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2952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762120" y="1600200"/>
          <a:ext cx="7834320" cy="46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83432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5257800" y="1219320"/>
            <a:ext cx="1447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87520" y="180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Vocab Lección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9880" y="17636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Vocab Lección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380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3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898560" y="3241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898560" y="40035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5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98560" y="47656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6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898560" y="5527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7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251460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8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556272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9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4038480" y="2514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0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70102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251460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4038480" y="3276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5627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7155000" y="327672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5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5146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3962520" y="3962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7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5538960" y="396252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7155000" y="403848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251460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40384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556272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7155000" y="480060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25146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4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2"/>
          <p:cNvSpPr/>
          <p:nvPr/>
        </p:nvSpPr>
        <p:spPr>
          <a:xfrm>
            <a:off x="4038480" y="5562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556272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7155000" y="556272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Jeopardy.wav" descr=""/>
          <p:cNvPicPr/>
          <p:nvPr/>
        </p:nvPicPr>
        <p:blipFill>
          <a:blip r:embed="rId29"/>
          <a:stretch/>
        </p:blipFill>
        <p:spPr>
          <a:xfrm>
            <a:off x="-152388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Jeopardy.wav" descr=""/>
          <p:cNvPicPr/>
          <p:nvPr/>
        </p:nvPicPr>
        <p:blipFill>
          <a:blip r:embed="rId30"/>
          <a:stretch/>
        </p:blipFill>
        <p:spPr>
          <a:xfrm>
            <a:off x="-121932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3"/>
          <p:cNvSpPr/>
          <p:nvPr/>
        </p:nvSpPr>
        <p:spPr>
          <a:xfrm>
            <a:off x="914400" y="1800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Vocab Lección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402160" y="16398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El viaje de Ca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010280" y="17510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on Quijo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501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04920" y="1981080"/>
            <a:ext cx="84582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persona que mira la televi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2514600"/>
            <a:ext cx="34290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televiden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64680" y="2138400"/>
            <a:ext cx="298944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 de la vi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743200" y="2590920"/>
            <a:ext cx="335268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uer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828800" y="2209680"/>
            <a:ext cx="525780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ner un argumen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32960" y="2438280"/>
            <a:ext cx="426816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learse/ discut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459080" y="2214720"/>
            <a:ext cx="55512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ico o ch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495240" y="2448000"/>
            <a:ext cx="17978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éner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905120" y="2367000"/>
            <a:ext cx="518148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itar a un niñ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124080" y="2362320"/>
            <a:ext cx="25909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añ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295280" y="29718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452040" y="2068560"/>
            <a:ext cx="215568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dia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8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600200" y="2362320"/>
            <a:ext cx="52578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 nombre cor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588840" y="2514600"/>
            <a:ext cx="164376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o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819520" y="2260440"/>
            <a:ext cx="34290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océa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505320" y="2549520"/>
            <a:ext cx="20574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m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8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489120" y="2438280"/>
            <a:ext cx="177804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selv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224080" y="2665440"/>
            <a:ext cx="44100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bosque trop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3352680" y="2286000"/>
            <a:ext cx="236232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e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84760" y="2673360"/>
            <a:ext cx="27457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incend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03360" y="2297160"/>
            <a:ext cx="777852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sta formación tiene muchas montañ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743200" y="2666880"/>
            <a:ext cx="34290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diller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276720" y="3048120"/>
            <a:ext cx="533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2236680"/>
            <a:ext cx="38098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periód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7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53" name="4DFAB4C9.WAV" descr=""/>
          <p:cNvPicPr/>
          <p:nvPr/>
        </p:nvPicPr>
        <p:blipFill>
          <a:blip r:embed="rId3"/>
          <a:stretch/>
        </p:blipFill>
        <p:spPr>
          <a:xfrm>
            <a:off x="-20574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4" name="4DFAB4C9.WAV" descr=""/>
          <p:cNvPicPr/>
          <p:nvPr/>
        </p:nvPicPr>
        <p:blipFill>
          <a:blip r:embed="rId4"/>
          <a:stretch/>
        </p:blipFill>
        <p:spPr>
          <a:xfrm>
            <a:off x="-190512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971800" y="2133720"/>
            <a:ext cx="29718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botar, tir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817080" y="2681280"/>
            <a:ext cx="15174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ch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14400" y="2286000"/>
            <a:ext cx="76960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blico o nacionalista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aro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895480" y="2514600"/>
            <a:ext cx="30481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ublica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914400" y="2286000"/>
            <a:ext cx="76960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blico o nacionalista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l tío de Caro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2895480" y="2514600"/>
            <a:ext cx="30481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cionalis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914400" y="2286000"/>
            <a:ext cx="76960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blico o nacionalista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l abuelo de Caro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2895480" y="2514600"/>
            <a:ext cx="30481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ublica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762120" y="2666880"/>
            <a:ext cx="769608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estra de Carol se llama 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048120" y="2514600"/>
            <a:ext cx="26668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u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78480" y="2286000"/>
            <a:ext cx="725040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primera página de una revis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7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459080" y="2362320"/>
            <a:ext cx="665316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buelo de Carol no quiere vivir con ella ______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499840" y="2371680"/>
            <a:ext cx="39283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 proteger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00840" y="2514600"/>
            <a:ext cx="825336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migo de Don Quijote es 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609480" y="3124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14600" y="2629080"/>
            <a:ext cx="39625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ncho Panz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15" name="9316E628.WAV" descr=""/>
          <p:cNvPicPr/>
          <p:nvPr/>
        </p:nvPicPr>
        <p:blipFill>
          <a:blip r:embed="rId3"/>
          <a:stretch/>
        </p:blipFill>
        <p:spPr>
          <a:xfrm>
            <a:off x="-175248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6" name="9316E628.WAV" descr=""/>
          <p:cNvPicPr/>
          <p:nvPr/>
        </p:nvPicPr>
        <p:blipFill>
          <a:blip r:embed="rId4"/>
          <a:stretch/>
        </p:blipFill>
        <p:spPr>
          <a:xfrm>
            <a:off x="-243828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3048120" y="31240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219320" y="2171880"/>
            <a:ext cx="6248160" cy="1922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ama de Don Qujote se llama 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134880" y="2819520"/>
            <a:ext cx="22946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ulcin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19320" y="2590920"/>
            <a:ext cx="67816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 nombre actual de Don Quijote es __________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Picture 6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2286000" y="2743200"/>
            <a:ext cx="42670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so Quija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80880" y="2057400"/>
            <a:ext cx="838224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Don Quijote battles a windmill, he thinks it’s a _______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3664440" y="2805120"/>
            <a:ext cx="13939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i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517920" y="2590920"/>
            <a:ext cx="242568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porta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200" y="1981080"/>
            <a:ext cx="838188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 Quijote’s enemy is ______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048120" y="2573280"/>
            <a:ext cx="3124080" cy="1312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reat Enchan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6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533520" y="2286000"/>
            <a:ext cx="7848360" cy="21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st the different things that Don Quijote mistakes throughout the mov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57" name="Jeopardy.wav" descr=""/>
          <p:cNvPicPr/>
          <p:nvPr/>
        </p:nvPicPr>
        <p:blipFill>
          <a:blip r:embed="rId2"/>
          <a:stretch/>
        </p:blipFill>
        <p:spPr>
          <a:xfrm>
            <a:off x="-137160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"/>
          <p:cNvPicPr/>
          <p:nvPr/>
        </p:nvPicPr>
        <p:blipFill>
          <a:blip r:embed="rId3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opardy template designed by Patricia Kelly, Fitchburg High School, Fitchburg,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 questions designed by Jessica Kaplan, Norwood High School, Norwood,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048120" y="2487600"/>
            <a:ext cx="251460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 dire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589560" y="2695680"/>
            <a:ext cx="18770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 viv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2743200" y="2090880"/>
            <a:ext cx="358128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gen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212640" y="2438280"/>
            <a:ext cx="228384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 públ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Jessica Kaplan</cp:lastModifiedBy>
  <dcterms:modified xsi:type="dcterms:W3CDTF">2014-06-16T16:59:24Z</dcterms:modified>
  <cp:revision>161</cp:revision>
  <dc:subject/>
  <dc:title>Jeopardy</dc:title>
</cp:coreProperties>
</file>